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76D2-22A2-477F-8A08-CA6A284C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CE0A-D038-4E0D-83D0-381F7FAD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E1BE-BA65-4423-89C2-A6E12F71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AFC9-C761-47F2-AB99-D1D8FE1F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6D0B-4F23-489B-8440-768FDCBB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99F0-DA94-4522-B547-14D52DA0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0001-6E11-450F-BFBC-0DBD6985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EEF6-DAFF-45F9-A4EE-F270BDC9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547E-344E-4188-AEA9-06DC7803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EE1C-CA77-4BA3-8E0D-675BFD81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7EC1-EF2B-4AAB-8700-3E0CFF66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A22A-64E8-42EC-A84A-DD15252F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DE3-1228-4EDE-910C-27668FD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0F85-C303-44C9-976C-9011D77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F0EA-7939-4455-B1D7-37390D5E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CF9C-0279-4ECA-86F2-A3C4A420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FA48-50BB-4D6C-A433-EB4DE1E8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6241-78CC-4B97-82F3-FF0AEDFB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76EC-632B-420F-9214-E84C652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4359-3E47-4AD7-9DB8-5D0B2F3E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58DE4-27E0-47C2-A5DF-E2115737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5E07-E89F-47D2-AEC2-2AE1C30C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C8DA-DF9B-4A6D-AA44-C64EA076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4961-F1C4-4382-9A5A-6762C351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A6BF-1B90-441F-BED1-3D4654F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82C3-01FC-4D7C-B3E6-0589BEF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0701-E790-489A-AA2E-554EA35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CAEF-24F6-4B38-96B3-26428A3C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B2F9-875E-4DBF-8F5A-4D26C492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BD5E-0F0B-44A6-808F-CCA1E157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95A99-212A-4305-B370-600CD918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4F3FD-19B5-4E17-9382-EA107A98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4F342-BE09-4164-AE77-0EEC07AC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3DC7-C011-4C79-A72E-44A897F5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2FA3-E844-4589-AFDB-31F7276B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244D3-7D97-4A8E-B9FA-54ED8086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2D4B-D375-407F-996E-3807C4E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1484-2782-4DCD-A1A3-3C83107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02E5-B04C-4474-A4FE-219A21D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D0B3-79FD-4FA1-98B2-6341C6B4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C4A5-4596-406A-BF77-0F3C972C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8084F-78AC-40FF-95AC-84250265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B848-9873-4DC9-A2A1-030746B7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6263-A086-4D89-8524-A7311AF4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86F6-4BF8-46FC-AB23-45A636C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6B97-EE85-4CE1-B5DA-4AFD10D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90B2-7CFE-4724-96C1-1641C40C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C3EE-CD2F-460B-854C-031C2A2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41CF-37C3-407C-9BC4-C6F3CB5C0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ECC5-83C7-4388-83D8-87765EB6E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A8CA-3E7B-451C-B08C-8F64FF7B4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D9B4-BB14-4905-823E-5B6DEC69E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bc.ca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is simply a collection of information that you store on a disk or disket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uniqu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arts: the filename and extension separated by a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P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ings of web pages tells us a bit about the page. Some common endings to web address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merci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ducational institu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overn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etwor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ganiz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ight also see addresses that add a country code as the last part of the address such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nad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ited Kingdo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ran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ited States of Americ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stral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ow to Search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basic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know the address of the web page (example: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bc.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Using a search engine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address.  This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word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tension to make your filenames more descrip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DOC – word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XLS – exce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PPT – powerpoint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organizing the files on your computer Hard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– one basic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ercomputers...are used to process very large amounts of information including processing information to predict hurricanes, satellite images and navigation, and process military war scenari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inframes...are used by government and businesses to process very large amounts of inform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i-Computers...are similar to mainframes...they are used by business and government to process large amounts of inform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sonal Computers (PC)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omputer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omputers...also known as PC’s...are smaller and less powerful than the others.  They are used in homes, schools, and small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3 main types of P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able (Notebook/Lapt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ortable (notebook/laptop) computers were first created they were HUGE.  They weighed around 100 lbs., and were carried in a large luggage suitcase.  The creators of the portable (notebook/laptop) computer dreamed that one day it would be the size a notebook or pocket dictionary.  With today’s technology, we have been able to accomplish this goal and more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-H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7315200" y="380880"/>
          <a:ext cx="14349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80880"/>
                    <a:ext cx="14349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twork is a group of computers that share information and hard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uters are connected together using copper phone wires, fiber optic cables, or radio wa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ternet is many networks around the world that are all connected together to make 1 huge net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5867280" y="228600"/>
          <a:ext cx="12956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860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7543800" y="233280"/>
          <a:ext cx="137160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33280"/>
                    <a:ext cx="13716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network of computers spanning the globe. It is also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Brow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oftware program that enables you to view Web pages on your computer. Browsers connect computers to the Internet, and allow people to “surf the Web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gle Chr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ne of the browser most commonly used. There are other browsers available as well, inclu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Explorer, Firef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arts of a Web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address is typically compose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pa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ttp://www.google.c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ade up of the following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b server uses Hypertext Transfer Protocol (HTTP). This is the most common protocol on the Inter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ite is on the World Wide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 server and site maintai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lls us it is a site in Can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5:58:36Z</dcterms:created>
  <dc:creator>EDUMANGAS</dc:creator>
  <dc:description/>
  <dc:language>en-US</dc:language>
  <cp:lastModifiedBy>kaab zarrar</cp:lastModifiedBy>
  <dcterms:modified xsi:type="dcterms:W3CDTF">2020-03-26T09:28:56Z</dcterms:modified>
  <cp:revision>68</cp:revision>
  <dc:subject/>
  <dc:title>FUNDAMENTALS OF COMPUTER</dc:title>
</cp:coreProperties>
</file>